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101-0DC0-4E0F-B652-57C67DEB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817-8DD1-4DD6-93F6-D8AF3666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C13-ECC0-49DF-88CB-EFD18E0C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8B3-B61D-4B5A-A9A0-2B0C0DF3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14A3-82D2-4472-A6C6-7519F173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80C7-717B-4DEE-94CB-3E7EC35A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D7D8-E682-485E-AE08-FDCFA3EB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F8AA-2B08-49BB-9B02-CA45B176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EA57-39FF-4346-9353-76512DA4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34E3-9E31-4521-9232-8EC6F99B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F8D6-D11E-4FE2-A329-EAABBC2A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2FB-017C-4887-9845-4ACEE6E3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4401-15EE-4B8F-97E1-02E9992F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BE02-3707-431C-B8AA-52CB8E88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CED9-8CD4-441A-8150-D10661B7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FB20-E506-4ABB-92D0-9598B9AC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C36C-8E80-4A74-8373-FE7B0533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716-7996-49AF-81B2-B14C5D94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61F-A444-4492-8306-13645A15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896-5ADA-46F5-8FFC-5AD7C76E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66D-CDEE-4458-A1D6-FC342D5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E0E-A75C-4D7E-BAC8-6ABFDCBE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BA9-9F20-4E17-8A6D-E372718D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ED8-6C9F-4845-809C-FCBEA82E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72FF-547C-4FB7-8747-3DB1EE5D574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 2015 SAGE Publications, In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4EB2-268F-4436-8F12-F2E70C89C7C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omponents of the Prevention and Mitigation Proces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dentify Potential Ris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sess the Probability that a Terrorist Incident will Occu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sess the Consequences to Society Should a Terrorist Event Occu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205704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Federal Mitigation Assista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zard Mitigation Assistance Grant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azard Mitigation Grant Progra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e-Disaster Mitig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lood Mitigation Assistan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petitive Flood Claim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vere Repetitive Los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433440" y="103320"/>
            <a:ext cx="8502480" cy="171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omplex Dilemma: Mitigating Chemical and Biological Inci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: Centers for Disease Control and Prevention Guide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1"/>
          <a:stretch/>
        </p:blipFill>
        <p:spPr>
          <a:xfrm>
            <a:off x="433440" y="158760"/>
            <a:ext cx="8502480" cy="198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A Complex Dilemma: Mitigating Chemical and Biological Inci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lex Challe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nfirming Use of Agent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otentially Mass Casualti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eployment of First Responde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dequacy of Medical Faciliti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Geographic Scope of Attack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se: Aum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hinrikyō Cul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Footer Placeholder 1"/>
          <p:cNvSpPr/>
          <p:nvPr/>
        </p:nvSpPr>
        <p:spPr>
          <a:xfrm>
            <a:off x="5867280" y="6248520"/>
            <a:ext cx="32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2" descr=""/>
          <p:cNvPicPr/>
          <p:nvPr/>
        </p:nvPicPr>
        <p:blipFill>
          <a:blip r:embed="rId1"/>
          <a:stretch/>
        </p:blipFill>
        <p:spPr>
          <a:xfrm>
            <a:off x="433440" y="158760"/>
            <a:ext cx="8502480" cy="198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Centers for Disease Control and Prevention Guide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municating Preparedness: CDC Preparedness and Response Public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iological and Chemical Terrorism: Strategic Plan for Preparedness and Respon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rst Hours: Emergency Respons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Footer Placeholder 1"/>
          <p:cNvSpPr/>
          <p:nvPr/>
        </p:nvSpPr>
        <p:spPr>
          <a:xfrm>
            <a:off x="3124080" y="641664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311040" y="103320"/>
            <a:ext cx="8753760" cy="1719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ordinating Nuclear Security: The Role of the U.S. Nuclear Regulatory Commis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: Weaponization of Radiological Hazards Revisi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Footer Placeholder 1"/>
          <p:cNvSpPr/>
          <p:nvPr/>
        </p:nvSpPr>
        <p:spPr>
          <a:xfrm>
            <a:off x="3124080" y="6416640"/>
            <a:ext cx="358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311040" y="158760"/>
            <a:ext cx="8753760" cy="198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oordinating Nuclear Security: The Role of the U.S. Nuclear Regulatory Commis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uthority of NR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RC Areas of Responsibi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forcing Required Mandates and Oversigh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ordination of Emergency Preparedness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 of Nuclear Security and Incident Respon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Footer Placeholder 1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311040" y="158760"/>
            <a:ext cx="8753760" cy="1981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243792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Weaponization of Radiological Agents Revisi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version into Weapons of Mass Destru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struction of Dirty Bomb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btaining Nuclear Weap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Preparedness, Response, Recovery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467560" cy="1218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Critical Resources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ad00"/>
                </a:solidFill>
                <a:latin typeface="Book Antiqua"/>
              </a:rPr>
              <a:t>Preparedness and Planning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962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ndational Concept: The National Incident Management System (NIM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cal Planning: The Private Sec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cal Planning: Emerging Roles at the Local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e in Point: Health and Medical Preparedness Strateg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7200" y="-189000"/>
            <a:ext cx="8229600" cy="142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Foundational Concept: The National Incident Management System (NIM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meland Security Presidential Directive (HSPD)-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ngle Comprehensive Approach to Incident Manag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ystem for Implementing National Response Framewor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640080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-189000"/>
            <a:ext cx="8229600" cy="142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Local Planning: The Private Sec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ximity to Terrorist Attacks and Casual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moting Homeland Security and Public-Private Collabo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ivate Sector Preparedn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tional Infrastructure Protection Pl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formation Sharing and Analysis Cent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7200" y="-189000"/>
            <a:ext cx="8229600" cy="1420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Local Planning: Emerging Roles at the Local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cessity for State-Federal Collabo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deral Guida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meland Security Role of Local Law Enforcement, Medical, and Fire Author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57200" y="-189000"/>
            <a:ext cx="8229600" cy="142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ase in Point: Health and Medical Preparedness Strateg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meland Security Presidential Directive (HSPD)-2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tional Strategy for Health and Preparedn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edical Surge Capacity and  Capability Handboo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06560" indent="-2858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ix Tiers of Responsibil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71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onents of the Prevention and Mitigation Proc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deral Mitigation Assista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2280" indent="-285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6-30T23:55:04Z</dcterms:modified>
  <cp:revision>130</cp:revision>
  <dc:subject/>
  <dc:title>Slide 1</dc:title>
</cp:coreProperties>
</file>